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C44-5994-451B-88EE-320A3C94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420-028B-4317-B845-F048C7C3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D8FB-B22D-41D4-A0AF-D5740AAA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EEA-904A-47AD-927D-CE997683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35CC-2D11-406F-9C6C-943968F8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A9D3-51AC-4CC5-B93F-FDD2A4B4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3FD2-F2D5-43D2-84DB-C8F5D90F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5134-8214-4C08-BF3C-51783541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73A2-C993-4C53-ABEA-5A115469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D734-2935-4889-9635-63B26BA1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32E4-AD06-4966-A0E0-2267B512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1F5-622A-457C-A9FC-A2ABE6BA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2286-4608-4E3B-B186-DF5F7722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D582-A335-4277-BFB7-86FA770D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F02A-8493-48B5-A06C-CACDA92C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A5EA-7C26-46FB-AB48-6D189B28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9492-EBFA-44DC-BAA9-2C6F1229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4A8-013A-4DE9-8667-D9DCE4DA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2CB-A1E8-4DD1-91DC-872EA729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5B8-1219-45B8-B620-012E2078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6EA-867C-43E8-B198-5A197B02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6B78-4C5A-4066-B3EC-CD62BFD0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93A6-B0BA-4BCB-9993-2168CD9A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903-F765-4DDA-ACC5-7A4B960C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412E-BE5F-4BA3-9906-6157B36AE6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239C-B2DA-4BEC-829B-2953191714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ocial Though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19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am Smi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Wealth of Nations-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rgued against mercantilist the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bor was most important factor of 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ketplace controlled the econ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issez-faire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cial Darwinism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rigin of the Spe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18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evolved from lower forms of lif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al of the fittest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rupts church bel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cial Darwinism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cial order is product of natural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ior” groups out-compete “inferior” grou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am Graham Sumn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ospel of Wealth/Social Darwinis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paragraph explaining how Social Darwinism and the gospel of wealth are rel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lement House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e Adda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lement Houses- centers of women’s activism &amp; social refo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services for immigrants &amp; sought to remedy pov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ll Ho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think settlement houses were affected by the idea of Gospel of Weal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13:39:11Z</dcterms:created>
  <dc:creator>FBISD</dc:creator>
  <dc:description/>
  <dc:language>en-US</dc:language>
  <cp:lastModifiedBy>emily.johnson</cp:lastModifiedBy>
  <dcterms:modified xsi:type="dcterms:W3CDTF">2013-01-16T21:49:18Z</dcterms:modified>
  <cp:revision>5</cp:revision>
  <dc:subject/>
  <dc:title>Social Thought</dc:title>
</cp:coreProperties>
</file>